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695-D237-4FD0-A2D5-4834F705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085-EE0C-4361-B1FA-3050B014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950-2916-4944-8C16-2600C05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38E-BBCE-4B1B-8C1E-693C8515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0C3D-9DC7-433F-A94D-F2B5B0F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CF65-7F2C-422A-902B-896DDB65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ED49-FAA1-4341-AFE0-D524C71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4E6-AE09-4691-8C5B-CBC5C88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763E-4725-4BB5-B7BB-417771FA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D9E-EDEF-43F6-817B-EC1942E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DC36-BDB7-4DBF-88A1-579BF1F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E7A-BB6E-4EA1-A2B0-2855159B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6FD6-7C20-4BD9-875B-A0F6496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85AF-A592-441A-AC63-BB29F3C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4DC-5A57-4DDF-9E9D-136722C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27D8-CA4F-4A06-940F-71CB6124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0039-561C-464B-AB45-790164FD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72F-401F-42A0-AF97-FD1515B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55D-CD4B-49CA-9017-9370DF7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EA1-40CC-404C-ACBA-2DF1807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84E-0C8C-4913-9F40-DD8C0E0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EFF-86B8-43BC-B953-419E88A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48B-ED31-4272-AEF2-DF75DC8D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110-9FFA-4C47-A7C6-474BF09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32A-5AC2-4723-92D5-0B10531EC77F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A3A-9A28-4700-BE4C-CA97A8F3EDCC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Word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Space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Wingdings"/>
                <a:ea typeface="Wingdings"/>
              </a:rPr>
              <a:t>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cluded as part of words, sentences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nd numb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word includes the space character that follows it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sentence includes the end-of-sentence punctuation and at least one spac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Nonbreaking space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prevent 2 words from being divided between 2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lin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eg. keep “Mr” and “Smith” on the same l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an you think of any other examples where this feature is useful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Tab 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cluded in indented tex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Paragraph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¶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paragraph is any amount of text followed by a 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 mark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Line break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Symbol"/>
                <a:ea typeface="Symbol"/>
              </a:rPr>
              <a:t>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starts a new line within the same paragraph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reate a paragraph of short lines such as an addres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How Do I Do That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ab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Press Tab ke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Wingdings"/>
                <a:ea typeface="Wingdings"/>
              </a:rPr>
              <a:t>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</a:rPr>
              <a:t>Spaceba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nbreaking 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trl+Shift+Spaceba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agraph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En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ne break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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Shift+En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you will take turns practicing these functions to be sure you understand how they wor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kay iSquaders, you are ready to work on your own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uring the next 30 minutes you will edit and format the document titled “Format Word” which I will give to you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llow the directions as given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will share at the end of the work tim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f you finish early, open one of your own documents and edit it using the techniques learned toda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nonprinting characters in 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ord documen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I recogniz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I hide or show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en might it be useful to show thes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character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en would you want to hid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y would you want to us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212164"/>
                </a:solidFill>
                <a:uFillTx/>
                <a:latin typeface="Arial"/>
              </a:rPr>
              <a:t>Steps: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Save “Format Word” document to students’ computer. Students open documen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Turn on Hide/Show function by clicking on ¶ icon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Place insertion point in front of word “Introduction”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Enter once to create new paragraph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Make one paragraph into two by doing the following: (a) place insertion point in front of the word “Duke” that follows the word “Albuquerque”. (b) press Enter once to create a separate paragraph and once again to create a space between papagraphs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Using the line break function (Shift + Enter), create one new paragraph by typing in the following address and phone number: Duke City Gateway, 15 Montgomery Boulevard, Albuquerque, NM 87111 (415-555-6789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Add a new word by following these steps: (a) Move the insertion point to the immediate left of the word “location” (b) Delete it and type “area” (c) 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Add a non breaking space by following these steps: Place insertion point in front of the word “tours”, backspace to remove space character and then press {Ctrl+shift+spacebar}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Save documen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 you now know what those “funny” marks repres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have seen how they can help you position your text where you want t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have learned how to show and hide these editing, nonprinting charac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ways in which you will use this in the classroo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an you explain this lesson to a fellow student and show them how to  use the fun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unny looking characters that appear on your document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hey are and what you are going to do with th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lk about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look at a documen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nprinting charact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ic editing functions – backspace, delete, text wrapp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ame of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t Looks Lik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Name of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ab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Wingdings"/>
                <a:ea typeface="Wingdings"/>
              </a:rPr>
              <a:t>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nbreaking 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agraph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ne break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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ppear on the screen but not on the printed document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Combine and split paragraph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Space paragraph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28600">
            <a:off x="152640" y="1065960"/>
            <a:ext cx="19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12164"/>
                </a:solidFill>
                <a:uFillTx/>
                <a:latin typeface="Arial"/>
              </a:rPr>
              <a:t>USES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3-13T10:16:58Z</dcterms:modified>
  <cp:revision>3</cp:revision>
  <dc:subject/>
  <dc:title>Workshop Title</dc:title>
</cp:coreProperties>
</file>